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40CB-E2C6-4808-A747-7FA01A04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22EC-7915-451D-9507-ECDFBF2E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CD2E-8F87-4C16-98E4-F8E3BBA5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DCED-65DF-449F-BF10-5A3D89CC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38DC-5AEF-4BFF-BD83-43948329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0358-FE44-4FB6-8679-3F3A63B0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1C31-2A57-4A8B-9E34-1BB47372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323B-7AE7-4F5C-A234-8FB41A48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CC4B-3D30-4FC0-95EF-43AC2843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3DB5-9D9B-40E0-B40D-175EEBD1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FEAD-7CE8-4961-8110-F191F8B2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10C4-05EC-4F8F-A9E1-E5F639F7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7684-4883-4479-B7AC-4BED79F8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1400-BF58-4E06-AF26-425F5BFF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C070-4B6A-4234-8C7A-EF04EF0F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FB95-FFBB-425D-A627-97A4ED5CC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F8AD-D82E-4B52-B4D1-3CCD1B6EC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C1D5-DD93-4CD4-AD0F-5CAB30F9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86C7-A655-4C08-A5CD-6830230F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888F-8466-4D45-8BE1-C28C79C5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2BE5-44AC-4E0D-9870-3A9F9C77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879C-2253-465B-A34A-197880FE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61E4-2D8A-44FA-8435-CC77ECF0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4A32-E2A2-42EE-BA27-0256E829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59E6-7F26-4971-B82E-293397DC39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6402-9ED5-41FC-9195-89CB2CD694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uk/imgres?imgurl=http://www.docdingley.com/links/images/sports/Badminton_Extreme.jpg&amp;imgrefurl=http://www.docdingley.com/links/Sports.htm&amp;usg=__B0JPieGConJyhR1LNo2gAMKCPfU=&amp;h=430&amp;w=290&amp;sz=30&amp;hl=en&amp;start=2&amp;tbnid=5YpW2oCr62DZmM:&amp;tbnh=126&amp;tbnw=85&amp;prev=/images%3Fq%3Dbadminton%26gbv%3D2%26hl%3Den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Comic Sans MS"/>
              </a:rPr>
              <a:t>Skills &amp; Techniqu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esson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iss Doo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419640" y="333360"/>
            <a:ext cx="2555640" cy="1792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3500280"/>
            <a:ext cx="2484360" cy="3357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0" y="3284640"/>
            <a:ext cx="29163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N.A.B 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-do the questions in N.A.B 1 that you need 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ue in on Friday 27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Nove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N.A.B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l you know abou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Model perfor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tages of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Content Of less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Read through your own N.A.B answers and any feedback I have given yo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dentify questions that need to be repe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Go over N.A.B questions and what is expected in your answ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tudy for next N.A.B on model performers and stages of lear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Comic Sans MS"/>
              </a:rPr>
              <a:t>Question a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scribe the methods you used to identify your performance strengths and weaknesses. (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Observation sched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Video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Knowledge Of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Observation schedu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Give an exam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Who filled it ou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Were you playing a ga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Was it in the form of a tab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Did it have heading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Did it have set criteri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Draw an example of what the schedule looked l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What did the observer 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Give examples of the info the O recor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Video analy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Used a video recor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Who was able to watch your performan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How does this benefit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Were you playing a ga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What are you able to do when watching a video of yourself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Used in conjunction with schedul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s the info recorded accur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Question b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plain why these methods are appropriate. (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Permanent record – how does having a permanent record benefit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Compare to a model performer (give exampl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Valid and reliable ( see work bookle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port specif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Question c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s a result of analysing your data give a detailed explanation of your strengths and weaknes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Gain general (whole performance) and specific (skill/ technique) strengths and weaknes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onsideration of 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What strengths did you identify and how did this affect your whole game performance? EXAMPLES!!!!!!!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peat for weaknes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peat this for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movement analysi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focusing on one specific skill –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Overhead Clear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Question d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s a result of analysing your data give a detailed explanation of your development needs.  (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Main weakness – Name skill (overhead clear). Your development needs are within this i.e. what are your weaknesses within the overhead clea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MOVEMENT ANALYSIS SCHEDU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What are you not doing well and how is it affecting your overhead clea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7:43:45Z</dcterms:created>
  <dc:creator>DooganS</dc:creator>
  <dc:description/>
  <dc:language>en-US</dc:language>
  <cp:lastModifiedBy>DooganS</cp:lastModifiedBy>
  <dcterms:modified xsi:type="dcterms:W3CDTF">2009-11-23T18:42:22Z</dcterms:modified>
  <cp:revision>11</cp:revision>
  <dc:subject/>
  <dc:title>Skills &amp; Techniques</dc:title>
</cp:coreProperties>
</file>